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407D-3C7E-44E7-8C72-138CB8F3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696-210A-4581-A3FC-B099C810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091-6905-4FF7-88B5-3F9E5EC7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264-9B5C-47BA-A221-4AABC5EB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08F-A2B2-4D36-9E7C-6923F70D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54B6-CD23-4EE6-9FE1-281FF418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1B7-D533-43BD-A824-50B75C9B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A0D-79C7-4102-BB15-49E9639C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7E8-673D-4C40-8E2F-E842CC6C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1BC-A71F-4B19-9650-AD632E2E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C69-E68F-4978-BF3B-356D9369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F980-F8B4-4FB1-98C6-06629EE0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18D0-0904-46A4-88C2-FEAC4C4CF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7632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_ Clase 7IL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5 de diciembre del 20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8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e donde es tu familia? ¿A donde es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6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6 (1-8) and WRITE if the sentence describes a CHARACTERISTIC or a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 Ejercicio 9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7 (1-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s hojas distribuidas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s homework will be collected and gra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6:40:34Z</dcterms:created>
  <dc:creator>Helen Zumaeta</dc:creator>
  <dc:description/>
  <dc:language>en-US</dc:language>
  <cp:lastModifiedBy>Helen Zumaeta</cp:lastModifiedBy>
  <dcterms:modified xsi:type="dcterms:W3CDTF">2012-12-04T22:23:45Z</dcterms:modified>
  <cp:revision>6</cp:revision>
  <dc:subject/>
  <dc:title>Me llamo ________ Clase 7IM La fecha es el 14 de abril del 2011</dc:title>
</cp:coreProperties>
</file>